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protcivil"/>
          <p:cNvPicPr/>
          <p:nvPr/>
        </p:nvPicPr>
        <p:blipFill>
          <a:blip r:embed="rId2"/>
          <a:stretch/>
        </p:blipFill>
        <p:spPr>
          <a:xfrm>
            <a:off x="7362720" y="0"/>
            <a:ext cx="1781280" cy="685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imagen_001"/>
          <p:cNvPicPr/>
          <p:nvPr/>
        </p:nvPicPr>
        <p:blipFill>
          <a:blip r:embed="rId3"/>
          <a:stretch/>
        </p:blipFill>
        <p:spPr>
          <a:xfrm>
            <a:off x="63360" y="101520"/>
            <a:ext cx="2210040" cy="58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5"/>
          <p:cNvSpPr/>
          <p:nvPr/>
        </p:nvSpPr>
        <p:spPr>
          <a:xfrm>
            <a:off x="4140360" y="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39" name="Text Box 8"/>
          <p:cNvSpPr/>
          <p:nvPr/>
        </p:nvSpPr>
        <p:spPr>
          <a:xfrm>
            <a:off x="0" y="6400800"/>
            <a:ext cx="89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40" name="Rectangle 17"/>
          <p:cNvSpPr/>
          <p:nvPr/>
        </p:nvSpPr>
        <p:spPr>
          <a:xfrm>
            <a:off x="0" y="322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41" name="Text Box 25"/>
          <p:cNvSpPr/>
          <p:nvPr/>
        </p:nvSpPr>
        <p:spPr>
          <a:xfrm>
            <a:off x="457200" y="1074600"/>
            <a:ext cx="8350200" cy="533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JORNADA TÉCNICA SOBRE “PLANES DE ACTUACIÓN MUNICIPAL DE EMERGENCIA NUCLEAR: ANÁLISIS Y EVALUACIÓN DE SU OPERATIVIDAD </a:t>
            </a:r>
            <a:endParaRPr b="0" lang="en-US" sz="32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 Mejora de los Planes Municipales 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mediante la programación de ejercicios y simulacros.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19 octubre 2015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117440" y="41655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140360" y="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140360" y="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0" y="6400800"/>
            <a:ext cx="89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20" name="14 Rectángulo"/>
          <p:cNvSpPr/>
          <p:nvPr/>
        </p:nvSpPr>
        <p:spPr>
          <a:xfrm>
            <a:off x="2502000" y="34732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216080" y="887400"/>
            <a:ext cx="835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0" y="943920"/>
            <a:ext cx="9144000" cy="5887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r su parte, los ejercicios y simulacros “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de camp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” son adecuados para:</a:t>
            </a: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probar la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doneidad de la organización previst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de la estructura de mando y relaciones operativas dentro de cada grupo de actuación y de la coordinación y relaciones operativas entre los diferentes grupos.</a:t>
            </a: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valuar la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pacidad de los mandos y del personal operativo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a la puesta en práctica de las tareas asignadas en la gestión de la emergencia, así como, en su caso, facilitar el perfeccionamiento de dicha capacitación.</a:t>
            </a: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valuar la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doneidad de los procedimient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del equipo y de los medios y recursos materiales asignados para la realización de dichas tareas.</a:t>
            </a: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rificar tiempos de respuesta y de ejecución de las actuaciones, en condiciones semejantes a las que se producirían en una situación de emergencia, así como el comportamiento en tales condiciones del personal de los equipos de intervención y,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n su caso, de los propios ciudadanos</a:t>
            </a: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4140360" y="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140360" y="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0" y="6400800"/>
            <a:ext cx="89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1216080" y="887400"/>
            <a:ext cx="835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27" name="8 Rectángulo redondeado"/>
          <p:cNvSpPr/>
          <p:nvPr/>
        </p:nvSpPr>
        <p:spPr>
          <a:xfrm>
            <a:off x="2671920" y="1189080"/>
            <a:ext cx="199224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jercicios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Parciales de Mesa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28" name="9 Rectángulo redondeado"/>
          <p:cNvSpPr/>
          <p:nvPr/>
        </p:nvSpPr>
        <p:spPr>
          <a:xfrm>
            <a:off x="0" y="1189080"/>
            <a:ext cx="229536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jercicios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Parciales de Campo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29" name="10 Rectángulo redondeado"/>
          <p:cNvSpPr/>
          <p:nvPr/>
        </p:nvSpPr>
        <p:spPr>
          <a:xfrm>
            <a:off x="1279440" y="2489040"/>
            <a:ext cx="2246400" cy="98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jercicios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Totales de Mesa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30" name="11 Rectángulo redondeado"/>
          <p:cNvSpPr/>
          <p:nvPr/>
        </p:nvSpPr>
        <p:spPr>
          <a:xfrm>
            <a:off x="1265400" y="5059440"/>
            <a:ext cx="22446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Simulacros Totales de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sa 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31" name="12 Rectángulo redondeado"/>
          <p:cNvSpPr/>
          <p:nvPr/>
        </p:nvSpPr>
        <p:spPr>
          <a:xfrm>
            <a:off x="1279440" y="3759120"/>
            <a:ext cx="2246400" cy="98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Simulacros parciales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po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32" name="13 Flecha a la derecha con bandas"/>
          <p:cNvSpPr/>
          <p:nvPr/>
        </p:nvSpPr>
        <p:spPr>
          <a:xfrm>
            <a:off x="4867200" y="1422360"/>
            <a:ext cx="1339920" cy="4572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33" name="15 CuadroTexto"/>
          <p:cNvSpPr/>
          <p:nvPr/>
        </p:nvSpPr>
        <p:spPr>
          <a:xfrm>
            <a:off x="6329520" y="884160"/>
            <a:ext cx="269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onocimiento, Adiestramiento y Capacitación.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dios Materiales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34" name="16 Flecha a la derecha con bandas"/>
          <p:cNvSpPr/>
          <p:nvPr/>
        </p:nvSpPr>
        <p:spPr>
          <a:xfrm>
            <a:off x="3759120" y="2722680"/>
            <a:ext cx="1341360" cy="4572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35" name="17 CuadroTexto"/>
          <p:cNvSpPr/>
          <p:nvPr/>
        </p:nvSpPr>
        <p:spPr>
          <a:xfrm>
            <a:off x="5629320" y="2489040"/>
            <a:ext cx="269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oordinación.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omunicaciones  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Toma de decisiones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36" name="18 CuadroTexto"/>
          <p:cNvSpPr/>
          <p:nvPr/>
        </p:nvSpPr>
        <p:spPr>
          <a:xfrm>
            <a:off x="5608800" y="3718080"/>
            <a:ext cx="33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jecución de medidas previstas .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onocimiento del  Plan 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37" name="19 Flecha a la derecha con bandas"/>
          <p:cNvSpPr/>
          <p:nvPr/>
        </p:nvSpPr>
        <p:spPr>
          <a:xfrm>
            <a:off x="3768840" y="4003560"/>
            <a:ext cx="1341360" cy="4572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38" name="20 Flecha a la derecha con bandas"/>
          <p:cNvSpPr/>
          <p:nvPr/>
        </p:nvSpPr>
        <p:spPr>
          <a:xfrm>
            <a:off x="3718080" y="5232240"/>
            <a:ext cx="1341360" cy="4572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39" name="21 CuadroTexto"/>
          <p:cNvSpPr/>
          <p:nvPr/>
        </p:nvSpPr>
        <p:spPr>
          <a:xfrm>
            <a:off x="5435640" y="5008680"/>
            <a:ext cx="336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Organización.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oordinación con otros Planes  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Suficiencia de Medios.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40" name="18 Rectángulo"/>
          <p:cNvSpPr/>
          <p:nvPr/>
        </p:nvSpPr>
        <p:spPr>
          <a:xfrm>
            <a:off x="3634560" y="1555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rogramación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5"/>
          <p:cNvSpPr/>
          <p:nvPr/>
        </p:nvSpPr>
        <p:spPr>
          <a:xfrm>
            <a:off x="4140360" y="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140360" y="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0" y="6400800"/>
            <a:ext cx="89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1216080" y="887400"/>
            <a:ext cx="835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45" name="18 Rectángulo"/>
          <p:cNvSpPr/>
          <p:nvPr/>
        </p:nvSpPr>
        <p:spPr>
          <a:xfrm>
            <a:off x="3373560" y="18576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46" name="15 Rectángulo"/>
          <p:cNvSpPr/>
          <p:nvPr/>
        </p:nvSpPr>
        <p:spPr>
          <a:xfrm>
            <a:off x="223920" y="1074600"/>
            <a:ext cx="84931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Desyre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realización de ejercicios y simulacros son parte esencial de la validación de los planes elaborados frente a los distintos riesgos, y en consecuencia su programación debe incluirse en el contenido del propio plan.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s distintas modalidades existentes, obedecen a objetivos distintos y complementarios, siendo deseable su ejecución  temporal ordenada en grado creciente de complejidad.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simulacros constituyen una herramienta idónea para la participación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ctiv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de los ciudadanos en la elaboración de los planes.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4140360" y="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140360" y="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0" y="6400800"/>
            <a:ext cx="89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46" name="14 Rectángulo"/>
          <p:cNvSpPr/>
          <p:nvPr/>
        </p:nvSpPr>
        <p:spPr>
          <a:xfrm>
            <a:off x="7408800" y="34941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2901960" y="196920"/>
            <a:ext cx="83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Simulacro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</p:txBody>
      </p:sp>
      <p:pic>
        <p:nvPicPr>
          <p:cNvPr id="48" name="Picture 4" descr="http://contenidos.educarex.es/med/2005/15/centrales/imagenestema3/triangulito.gif"/>
          <p:cNvPicPr/>
          <p:nvPr/>
        </p:nvPicPr>
        <p:blipFill>
          <a:blip r:embed="rId1"/>
          <a:stretch/>
        </p:blipFill>
        <p:spPr>
          <a:xfrm>
            <a:off x="127080" y="457200"/>
            <a:ext cx="133200" cy="152280"/>
          </a:xfrm>
          <a:prstGeom prst="rect">
            <a:avLst/>
          </a:prstGeom>
          <a:ln w="0">
            <a:noFill/>
          </a:ln>
        </p:spPr>
      </p:pic>
      <p:sp>
        <p:nvSpPr>
          <p:cNvPr id="49" name="15 Rectángulo"/>
          <p:cNvSpPr/>
          <p:nvPr/>
        </p:nvSpPr>
        <p:spPr>
          <a:xfrm>
            <a:off x="193680" y="2344680"/>
            <a:ext cx="849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Desyre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n simulacro es un conjunto de acciones previamente programadas ante una situación sobrevenida, que tiene por finalidad comprobar la eficacia e idoneidad de las medidas de respuesta contenidas en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os planes previamente elabor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4140360" y="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140360" y="0"/>
            <a:ext cx="50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52" name="14 Rectángulo"/>
          <p:cNvSpPr/>
          <p:nvPr/>
        </p:nvSpPr>
        <p:spPr>
          <a:xfrm>
            <a:off x="7408800" y="34941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1216080" y="887400"/>
            <a:ext cx="835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pic>
        <p:nvPicPr>
          <p:cNvPr id="54" name="Picture 4" descr="http://contenidos.educarex.es/med/2005/15/centrales/imagenestema3/triangulito.gif"/>
          <p:cNvPicPr/>
          <p:nvPr/>
        </p:nvPicPr>
        <p:blipFill>
          <a:blip r:embed="rId1"/>
          <a:stretch/>
        </p:blipFill>
        <p:spPr>
          <a:xfrm>
            <a:off x="127080" y="457200"/>
            <a:ext cx="133200" cy="152280"/>
          </a:xfrm>
          <a:prstGeom prst="rect">
            <a:avLst/>
          </a:prstGeom>
          <a:ln w="0">
            <a:noFill/>
          </a:ln>
        </p:spPr>
      </p:pic>
      <p:sp>
        <p:nvSpPr>
          <p:cNvPr id="55" name="15 Rectángulo"/>
          <p:cNvSpPr/>
          <p:nvPr/>
        </p:nvSpPr>
        <p:spPr>
          <a:xfrm>
            <a:off x="223920" y="1074600"/>
            <a:ext cx="8493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Desyre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n plan es el documento que contiene el resultado de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un proceso de planific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que integra: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organización jerárquica y funcional de las autoridades y servicios llamados a intervenir. 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Mediante la ordenación y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mpleo de los medios y recursos disponibl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la puesta en práctica de las medidas preventivas y reactivas contempladas en situaciones de grave riesgo colectivo, par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vitar o disminuir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us consecuencias. 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23 Decisión"/>
          <p:cNvSpPr/>
          <p:nvPr/>
        </p:nvSpPr>
        <p:spPr>
          <a:xfrm>
            <a:off x="0" y="2814480"/>
            <a:ext cx="1757520" cy="935280"/>
          </a:xfrm>
          <a:prstGeom prst="flowChartDecision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4140360" y="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140360" y="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59" name="14 Rectángulo"/>
          <p:cNvSpPr/>
          <p:nvPr/>
        </p:nvSpPr>
        <p:spPr>
          <a:xfrm>
            <a:off x="7408800" y="34941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6642000" y="896760"/>
            <a:ext cx="835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¿ Frente a Qué y Dónde? 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pic>
        <p:nvPicPr>
          <p:cNvPr id="61" name="Picture 4" descr="http://contenidos.educarex.es/med/2005/15/centrales/imagenestema3/triangulito.gif"/>
          <p:cNvPicPr/>
          <p:nvPr/>
        </p:nvPicPr>
        <p:blipFill>
          <a:blip r:embed="rId1"/>
          <a:stretch/>
        </p:blipFill>
        <p:spPr>
          <a:xfrm>
            <a:off x="127080" y="457200"/>
            <a:ext cx="133200" cy="152280"/>
          </a:xfrm>
          <a:prstGeom prst="rect">
            <a:avLst/>
          </a:prstGeom>
          <a:ln w="0">
            <a:noFill/>
          </a:ln>
        </p:spPr>
      </p:pic>
      <p:sp>
        <p:nvSpPr>
          <p:cNvPr id="62" name="11 Bisel"/>
          <p:cNvSpPr/>
          <p:nvPr/>
        </p:nvSpPr>
        <p:spPr>
          <a:xfrm>
            <a:off x="6675480" y="1330200"/>
            <a:ext cx="1646280" cy="935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Riesgo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63" name="12 Bisel"/>
          <p:cNvSpPr/>
          <p:nvPr/>
        </p:nvSpPr>
        <p:spPr>
          <a:xfrm>
            <a:off x="3576600" y="1341360"/>
            <a:ext cx="1646280" cy="935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64" name="13 Bisel"/>
          <p:cNvSpPr/>
          <p:nvPr/>
        </p:nvSpPr>
        <p:spPr>
          <a:xfrm>
            <a:off x="5719680" y="2946240"/>
            <a:ext cx="1646280" cy="935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Medios y 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Recursos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65" name="15 Bisel"/>
          <p:cNvSpPr/>
          <p:nvPr/>
        </p:nvSpPr>
        <p:spPr>
          <a:xfrm>
            <a:off x="4714920" y="4703760"/>
            <a:ext cx="164448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Organización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66" name="16 Bisel"/>
          <p:cNvSpPr/>
          <p:nvPr/>
        </p:nvSpPr>
        <p:spPr>
          <a:xfrm>
            <a:off x="2327400" y="4714920"/>
            <a:ext cx="1644480" cy="933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Activación y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Respuesta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67" name="17 Bisel"/>
          <p:cNvSpPr/>
          <p:nvPr/>
        </p:nvSpPr>
        <p:spPr>
          <a:xfrm>
            <a:off x="7365960" y="2936880"/>
            <a:ext cx="1646280" cy="933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istemas de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omunicación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68" name="18 Bisel"/>
          <p:cNvSpPr/>
          <p:nvPr/>
        </p:nvSpPr>
        <p:spPr>
          <a:xfrm>
            <a:off x="2316240" y="5730840"/>
            <a:ext cx="1646280" cy="933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Colaboración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ciudadana 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69" name="19 Bisel"/>
          <p:cNvSpPr/>
          <p:nvPr/>
        </p:nvSpPr>
        <p:spPr>
          <a:xfrm>
            <a:off x="6603840" y="3902040"/>
            <a:ext cx="1646280" cy="933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apacitación 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y Formación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70" name="20 Bisel"/>
          <p:cNvSpPr/>
          <p:nvPr/>
        </p:nvSpPr>
        <p:spPr>
          <a:xfrm>
            <a:off x="244440" y="1360440"/>
            <a:ext cx="1798560" cy="1027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Revisión y 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Actualización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71" name="21 Bisel"/>
          <p:cNvSpPr/>
          <p:nvPr/>
        </p:nvSpPr>
        <p:spPr>
          <a:xfrm>
            <a:off x="5172120" y="5648400"/>
            <a:ext cx="164448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Coordinación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con otros planes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72" name="23 Rectángulo"/>
          <p:cNvSpPr/>
          <p:nvPr/>
        </p:nvSpPr>
        <p:spPr>
          <a:xfrm>
            <a:off x="5383080" y="2614680"/>
            <a:ext cx="374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0" i="1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Con qué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? &gt;&gt;&gt; </a:t>
            </a:r>
            <a:r>
              <a:rPr b="0" i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Suficiencia e idoneidad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73" name="25 Rectángulo"/>
          <p:cNvSpPr/>
          <p:nvPr/>
        </p:nvSpPr>
        <p:spPr>
          <a:xfrm>
            <a:off x="2406600" y="4138560"/>
            <a:ext cx="323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¿Hacer qué?¿Cómo?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&gt;&gt;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adecuación de procedimientos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74" name="26 Rectángulo"/>
          <p:cNvSpPr/>
          <p:nvPr/>
        </p:nvSpPr>
        <p:spPr>
          <a:xfrm>
            <a:off x="6476040" y="5143680"/>
            <a:ext cx="265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¿Quien?&gt;&gt; </a:t>
            </a:r>
            <a:r>
              <a:rPr b="0" i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eficacia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de la organización prevista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75" name="27 Rectángulo"/>
          <p:cNvSpPr/>
          <p:nvPr/>
        </p:nvSpPr>
        <p:spPr>
          <a:xfrm>
            <a:off x="3691800" y="91764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¿Para qué?  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76" name="28 Rectángulo"/>
          <p:cNvSpPr/>
          <p:nvPr/>
        </p:nvSpPr>
        <p:spPr>
          <a:xfrm>
            <a:off x="377640" y="3083040"/>
            <a:ext cx="1119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Validación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77" name="29 Flecha curvada hacia abajo"/>
          <p:cNvSpPr/>
          <p:nvPr/>
        </p:nvSpPr>
        <p:spPr>
          <a:xfrm rot="5400000">
            <a:off x="4045680" y="2534400"/>
            <a:ext cx="1384560" cy="1579680"/>
          </a:xfrm>
          <a:custGeom>
            <a:avLst/>
            <a:gdLst>
              <a:gd name="textAreaLeft" fmla="*/ 216360 w 1384560"/>
              <a:gd name="textAreaRight" fmla="*/ 995400 w 1384560"/>
              <a:gd name="textAreaTop" fmla="*/ 211680 h 1579680"/>
              <a:gd name="textAreaBottom" fmla="*/ 1368000 h 1579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1" hR="21600" stAng="10800000" swAng="5400000"/>
                <a:lnTo>
                  <a:pt x="12150" y="0"/>
                </a:lnTo>
                <a:arcTo wR="6751" hR="21600" stAng="-5400000" swAng="3111015"/>
                <a:lnTo>
                  <a:pt x="21405" y="16450"/>
                </a:lnTo>
                <a:lnTo>
                  <a:pt x="16202" y="21600"/>
                </a:lnTo>
                <a:lnTo>
                  <a:pt x="10608" y="16450"/>
                </a:lnTo>
                <a:lnTo>
                  <a:pt x="13307" y="16450"/>
                </a:lnTo>
                <a:arcTo wR="6751" hR="21600" stAng="-2288985" swAng="-2645143"/>
                <a:lnTo>
                  <a:pt x="9451" y="1802"/>
                </a:lnTo>
                <a:arcTo wR="6751" hR="21600" stAng="-5865872" swAng="-4934128"/>
                <a:close/>
              </a:path>
              <a:path fill="darkenLess" w="21600" h="21600">
                <a:moveTo>
                  <a:pt x="0" y="21600"/>
                </a:moveTo>
                <a:arcTo wR="6751" hR="21600" stAng="10800000" swAng="5400000"/>
                <a:lnTo>
                  <a:pt x="6751" y="0"/>
                </a:lnTo>
                <a:arcTo wR="6751" hR="21600" stAng="-5400000" swAng="465872"/>
                <a:lnTo>
                  <a:pt x="9451" y="1802"/>
                </a:lnTo>
                <a:arcTo wR="6751" hR="21600" stAng="-5865872" swAng="-4934128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6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78" name="16 Bisel"/>
          <p:cNvSpPr/>
          <p:nvPr/>
        </p:nvSpPr>
        <p:spPr>
          <a:xfrm>
            <a:off x="133200" y="4299120"/>
            <a:ext cx="1644840" cy="933120"/>
          </a:xfrm>
          <a:prstGeom prst="beve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EJERCICIOS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IMULACROS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79" name="29 Flecha curvada hacia abajo"/>
          <p:cNvSpPr/>
          <p:nvPr/>
        </p:nvSpPr>
        <p:spPr>
          <a:xfrm rot="16200000">
            <a:off x="2205720" y="2421720"/>
            <a:ext cx="1384560" cy="1579680"/>
          </a:xfrm>
          <a:custGeom>
            <a:avLst/>
            <a:gdLst>
              <a:gd name="textAreaLeft" fmla="*/ 216360 w 1384560"/>
              <a:gd name="textAreaRight" fmla="*/ 995400 w 1384560"/>
              <a:gd name="textAreaTop" fmla="*/ 211680 h 1579680"/>
              <a:gd name="textAreaBottom" fmla="*/ 1368000 h 1579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1" hR="21600" stAng="10800000" swAng="5400000"/>
                <a:lnTo>
                  <a:pt x="12150" y="0"/>
                </a:lnTo>
                <a:arcTo wR="6751" hR="21600" stAng="-5400000" swAng="3111015"/>
                <a:lnTo>
                  <a:pt x="21405" y="16450"/>
                </a:lnTo>
                <a:lnTo>
                  <a:pt x="16202" y="21600"/>
                </a:lnTo>
                <a:lnTo>
                  <a:pt x="10608" y="16450"/>
                </a:lnTo>
                <a:lnTo>
                  <a:pt x="13307" y="16450"/>
                </a:lnTo>
                <a:arcTo wR="6751" hR="21600" stAng="-2288985" swAng="-2645143"/>
                <a:lnTo>
                  <a:pt x="9451" y="1802"/>
                </a:lnTo>
                <a:arcTo wR="6751" hR="21600" stAng="-5865872" swAng="-4934128"/>
                <a:close/>
              </a:path>
              <a:path fill="darkenLess" w="21600" h="21600">
                <a:moveTo>
                  <a:pt x="0" y="21600"/>
                </a:moveTo>
                <a:arcTo wR="6751" hR="21600" stAng="10800000" swAng="5400000"/>
                <a:lnTo>
                  <a:pt x="6751" y="0"/>
                </a:lnTo>
                <a:arcTo wR="6751" hR="21600" stAng="-5400000" swAng="465872"/>
                <a:lnTo>
                  <a:pt x="9451" y="1802"/>
                </a:lnTo>
                <a:arcTo wR="6751" hR="21600" stAng="-5865872" swAng="-4934128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6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80" name="25 Rectángulo"/>
          <p:cNvSpPr/>
          <p:nvPr/>
        </p:nvSpPr>
        <p:spPr>
          <a:xfrm>
            <a:off x="2978280" y="146160"/>
            <a:ext cx="35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roceso de planific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4140360" y="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140360" y="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6400800"/>
            <a:ext cx="89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84" name="14 Rectángulo"/>
          <p:cNvSpPr/>
          <p:nvPr/>
        </p:nvSpPr>
        <p:spPr>
          <a:xfrm>
            <a:off x="2502000" y="34732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1216080" y="887400"/>
            <a:ext cx="835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0" y="788040"/>
            <a:ext cx="8899560" cy="5580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suficiencia e idoneidad de los medios y recursos asignados.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capacitación de los actuantes.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eficacia de la organización de respuesta prevista.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adecuación de los procedimientos de actuación operativa.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coordinación entre las distintas organizaciones involucradas y, en su caso, entre los diferentes niveles territoriales de planificación.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rado de respuesta ciudadana.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4140360" y="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140360" y="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0" y="6400800"/>
            <a:ext cx="89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90" name="14 Rectángulo"/>
          <p:cNvSpPr/>
          <p:nvPr/>
        </p:nvSpPr>
        <p:spPr>
          <a:xfrm>
            <a:off x="2502000" y="34732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1216080" y="887400"/>
            <a:ext cx="835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0" y="712080"/>
            <a:ext cx="8931240" cy="5580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ejecución práctica de una determinada tarea para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tener el conocimiento práctico de los Planes.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robar (y desarrollar) el grado de adiestramiento del personal actuante para la ejecución de las funciones encomendadas mediante su puesta en práctica.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rizar al personal con los equipos y técnicas que deberán utilizarse en caso de emergencia.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robar el funcionamiento de los equipos y sistemas que han de emplearse.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93" name="7 Rectángulo"/>
          <p:cNvSpPr/>
          <p:nvPr/>
        </p:nvSpPr>
        <p:spPr>
          <a:xfrm>
            <a:off x="4069080" y="15552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jercicios</a:t>
            </a: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4140360" y="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140360" y="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0" y="6400800"/>
            <a:ext cx="89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97" name="14 Rectángulo"/>
          <p:cNvSpPr/>
          <p:nvPr/>
        </p:nvSpPr>
        <p:spPr>
          <a:xfrm>
            <a:off x="2502000" y="34732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1216080" y="887400"/>
            <a:ext cx="835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99" name="10 Rectángulo"/>
          <p:cNvSpPr/>
          <p:nvPr/>
        </p:nvSpPr>
        <p:spPr>
          <a:xfrm>
            <a:off x="0" y="1430280"/>
            <a:ext cx="8848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n definitiva,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n los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ejercicios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l objeto de la prueb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es una determinada tarea o un conjunto de tareas muy interrelacionadas entre si.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Su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objetivo fundamental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y su principal utilidad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s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facilitar el adiestramient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capacitación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del personal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n la realización de aquellas tareas que habrá de desarrollar en caso de emergencia, mejorando el conocimiento de cómo debe realizarlas y, a la vez, permitiendo la adquisición de los automatismos necesarios para su desempeño en situaciones difíciles y estresantes.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00" name="11 Rectángulo"/>
          <p:cNvSpPr/>
          <p:nvPr/>
        </p:nvSpPr>
        <p:spPr>
          <a:xfrm>
            <a:off x="0" y="4871880"/>
            <a:ext cx="89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Por su parte, en los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simulacro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el objeto de la prueba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 es la organización mism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. Su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objetivo fundamental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s comprobar la idoneidad de las previsiones organizativas, incluida la dotación y características de los equipamientos, ante una determinada hipótesis accidental.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4140360" y="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140360" y="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0" y="6400800"/>
            <a:ext cx="89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04" name="14 Rectángulo"/>
          <p:cNvSpPr/>
          <p:nvPr/>
        </p:nvSpPr>
        <p:spPr>
          <a:xfrm>
            <a:off x="2502000" y="34732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1216080" y="887400"/>
            <a:ext cx="835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pic>
        <p:nvPicPr>
          <p:cNvPr id="106" name="Picture 4" descr="http://contenidos.educarex.es/med/2005/15/centrales/imagenestema3/triangulito.gif"/>
          <p:cNvPicPr/>
          <p:nvPr/>
        </p:nvPicPr>
        <p:blipFill>
          <a:blip r:embed="rId1"/>
          <a:stretch/>
        </p:blipFill>
        <p:spPr>
          <a:xfrm>
            <a:off x="127080" y="457200"/>
            <a:ext cx="133200" cy="152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0" y="804600"/>
            <a:ext cx="9144000" cy="5277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 gabinete, de escritorio o de mesa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nominan así a lo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jercicios y simulacro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 los que la respuesta de la organización involucrada y que es objeto de prueba, consiste en la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oma de decisiones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lativas a las sucesivas informaciones que le son suministradas, en función del desarrollo de una hipotética situación de emergencia.</a:t>
            </a: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De campo</a:t>
            </a: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on ejercicio y simulacros en los que los participantes, o al menos una parte de ellos, han de realizar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ctividades operativ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al y como se realizarían para la protección y socorro de la población, dada una hipotética situación de emergencia, e implicando, en consecuencia, la movilización real de personal y medios materiales.</a:t>
            </a: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4140360" y="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140360" y="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0" y="6400800"/>
            <a:ext cx="89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11" name="14 Rectángulo"/>
          <p:cNvSpPr/>
          <p:nvPr/>
        </p:nvSpPr>
        <p:spPr>
          <a:xfrm>
            <a:off x="2502000" y="34732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1216080" y="887400"/>
            <a:ext cx="835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syre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0" y="1358280"/>
            <a:ext cx="9144000" cy="4057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 general, los ejercicios y simulacros </a:t>
            </a:r>
            <a:r>
              <a:rPr b="1" lang="es-ES" sz="2000" spc="-1" strike="noStrike">
                <a:solidFill>
                  <a:srgbClr val="ffffff"/>
                </a:solidFill>
                <a:latin typeface="Desyrel"/>
                <a:ea typeface="Times New Roman"/>
              </a:rPr>
              <a:t>“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de gabinete</a:t>
            </a:r>
            <a:r>
              <a:rPr b="1" lang="es-ES" sz="2000" spc="-1" strike="noStrike">
                <a:solidFill>
                  <a:srgbClr val="ffffff"/>
                </a:solidFill>
                <a:latin typeface="Desyrel"/>
                <a:ea typeface="Times New Roman"/>
              </a:rPr>
              <a:t>”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on adecuados para:</a:t>
            </a: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valuar la capacidad para la toma de decisiones, individuales y colectivas, de lo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órganos de direcció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 los planes y de lo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entros de coordinació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 intervienen en la gestión de una emergencia así como, en su caso, facilitar la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pacitación de las personas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tegrantes de dichos Órganos.</a:t>
            </a: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bar los mecanismos, procedimientos y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edios de comunica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tre los centros de coordinación que intervienen en la gestión de emergencias, y entre ésto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y los de otras institucion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 pueden verse involucradas en la misma. </a:t>
            </a: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syr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é de la Vega, Miguel</dc:creator>
  <dc:description/>
  <dc:language>en-US</dc:language>
  <cp:lastModifiedBy>mtvega</cp:lastModifiedBy>
  <dcterms:modified xsi:type="dcterms:W3CDTF">2015-10-14T10:18:05Z</dcterms:modified>
  <cp:revision>665</cp:revision>
  <dc:subject/>
  <dc:title>PowerPoint Presentation</dc:title>
</cp:coreProperties>
</file>